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086-3760-4E77-9D58-B4769ADF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29D-D02D-4F1B-88C9-C925DD4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E30-6196-44B0-A3C5-34A0CA62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BFE-2FEC-4230-9BFC-66E2A823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BDA9-EE41-4417-B213-1F40B02C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DBF-AF6D-4719-AFD1-A9A7490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E566-706C-404E-81DB-2B672292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A016-B354-4F1E-AC60-DBF94A9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9CFE-2742-4434-A6A8-60A9148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CE1-2940-45A6-9B76-A12D2D01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994-AA43-4537-A867-7BC194DD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26B-1F98-44B8-868F-CCCAB4A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A59-C065-49B7-B9B3-8F1F36E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A35-D810-46CF-96C8-E2FB834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43D8-1ECF-4FEE-9B17-DBEF5D0A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1680-95CC-4D48-94E6-4480967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B354-E255-49D6-A64A-10E4AC95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C45-B7D1-48E5-A8CE-BC37D16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8ED-AE74-4135-846F-6DC98B6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980-2CF4-46F2-9736-DC11F4E7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0C2-0781-4B80-8C2B-150CA9B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A70-DCD6-4473-9CC5-66AC7E3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9E0-6072-4749-9355-F18F3BF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BD1-619C-4BB4-911C-E5BE19D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B56-7D7A-42E6-9C66-4B3E5B7027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19C-4B64-42FC-BDC0-1F746D734B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32130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9280" y="404640"/>
            <a:ext cx="385128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ЗАХСТАНСКИЙ ИНСТИТУ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АНДАРТИЗАЦИИ И СЕРТИФИК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84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3240" y="2578320"/>
            <a:ext cx="801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РЯДОК ПРИМЕНЕНИЯ  МЕЖДУНАРОДНЫХ, РЕГИОНАЛЬНЫХ И НАЦИОНАЛЬНЫХ СТАНДАРТОВ  ИНОСТРАННЫХ ГОСУДАРСТ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РУГИХ НОРМАТИВНЫХ ДОКУМЕНТОВ ПО СТАНДАРТИЗАЦИИ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РЕСПУБЛИКЕ КАЗАХ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Tahoma"/>
              </a:rPr>
              <a:t>Выполняемая работа по занимаемой должности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абота по обеспечению клиентов нужной информаци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абота с организациями и структурами на договорной основ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Пополнение и обновление библеографической базы данных (в день вносится-35-40 стандартов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егистрация писем поступающих в отдел (в день 5-8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егистрация переодической печати и хранение в фонде (4-6 экз. В день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Поддержка обратной связи с клиент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Выполнение своевременного заказа юридических и физических лиц на полученные от них письм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Ежедневная регистрация и снятие с регистрации клиентов в электронной систем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абота с ежемесячными информационными указателям государственных стандарт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Актуализация стандарт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Пополнение Фон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Приведение Фонда в надлежащее состояни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Сохранение стандартов в электронном и бумажном вид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Присвоение государственным стандартом рабочего и контрольного номера и регистрация и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Оказание маркетинговых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Консультации в области нормативно правовых акт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Сбор (внесение, поправки, изменение) ежегодного указателя нормативно правовых актов и стандартов на 2006 г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Информационная обработ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абота с информационно поисковой системо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Работа с посетителя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Tahoma"/>
              </a:rPr>
              <a:t>Основные обязанности: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Подготовка информации, справки по вопросам, входящим в компетенцию Фон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Информационное обслуживание пользователей и и сервисное обслуживание клиентов Фон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ведение, учет и хранение нормативных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комплектование и обновление Фонда необходимыми материалами и нормативными документ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заключение договоров по обеспечению нормативными документами и оказанию информационных услуг: в устной форме, письменным заявкам, каналам электронной поч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постоянное улучщение деятельности Фонда и повышение дох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Tahoma"/>
              </a:rPr>
              <a:t>Заключение и выполнение Договора с предприятиями</a:t>
            </a:r>
            <a:br>
              <a:rPr sz="2000"/>
            </a:br>
            <a:r>
              <a:rPr b="1" lang="kk-KZ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Подготовка проекта Догов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согласование с юристом РГП «КазИнСт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согласование с экономистом РГП «КазИнСт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утверждение Догово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Рассылка писем по предприятиям в электронной и бумажной версиях, для заключения договор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Заключение договоров с предприятиями по Республике Казахстан сроком на 1 го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После заключения договора, рассылка подписных изданий, указател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Заявка-выполнение заявок, обеспечение запрашиваемой нормативной документаци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По квартальный Акт выполненных работ. Рассылка Акта выполненных работ по квартально предприятиям, заключившим Договор на обеспечения нормативными документами и информационными услуг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00"/>
                </a:solidFill>
                <a:latin typeface="Tahoma"/>
              </a:rPr>
              <a:t>Выполнение заказа стандар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36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ahoma"/>
              </a:rPr>
              <a:t>На основе догово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Составление договора сроком на 1 го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еспечением Н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еспечение информационными указателямистандар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еспечениежурналом«НГ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еспечение НД на временное пользов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Составление АКТ-а о выполненных работах на каждый кварта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17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формление счет фактур, накладн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92720" y="1981080"/>
            <a:ext cx="331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ahoma"/>
              </a:rPr>
              <a:t>В виде разовых заяв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служивание клиен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нсульт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Обеспечение Н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полняемая работа (Асет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полнение и обновление библиографической базы данн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ктуализация стандар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писка с предприятиями и организаци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своение государственным стандартам рабочего и контрольного номера и регистрация и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ение посетителе необходимой информацией и стандарт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держание порядка в фон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Цели  принятия международных стандартов, и иных стандартов и нормативных документов в качестве государственных стандартов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устранение технических барьеров в торговл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оздание условий для свободного движения продук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оздание условий для продвижения продукции, производимой предприятиями  Республики Казахстан, на международные рынки сбыт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ризнание результатов оценки соответств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Методы принят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дтверж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издания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етной регистрации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Метод подтверждения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еждународному стандарту придают   статус   государственного   стандарта   путем   опубликования   организационно-распорядительного документа в указателе (каталоге) стандартов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етод  для государственных стандартов с идентичной степенью соответствия при наличии официальной версии международного стандарта, международного документа на государственном и русском языках и отсутствии необходимости внесения в международный стандарт, международный документ редакционных изме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од переизда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тод переиздания международного стандарта, международного документа в государственный стандарт может быть выполнен пут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репеч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 пере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составления новой редакц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репечат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сударственный стандарт издается (публикуется) путем прямого воспроизведения международного стандарта, международного документа (например, фотографированием, сканированием, воспроизведением электронного файл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анный метод принятия применяется для государственных стандартов с идентичной или модифицированной степенью соответствия при наличии официальной версии международного стандарта, международного документа на государственном и русском языках и при отсутствии/наличии необходимости внесения в международный стандарт, международный документ редакционных изменений и (или) технических откло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еревод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49920" y="2319480"/>
            <a:ext cx="844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осударственный стандарт представляет соб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фициальный перевод международного стандар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6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евод должен осуществляться толь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6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официального  языка оригин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нный метод принятия применяется для государств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андартов с идентичной или модифицирова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епенью соответствия при отсутствии официаль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ставление новой редак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-1849680" y="1742760"/>
            <a:ext cx="1182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меняется для государств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андартов с модифицированной степенью соответствия при налич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фициальной версии международного стандар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ждународного  документа на государствен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русском языках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основе официального перевод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обходимости внесения в международный стандар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дакционных изменен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хнических отклонен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ПОДГОТОВКА К ИЗДАНИЮ ИНФОРМАЦИОННЫХ ДОКУМЕНТОВ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981000"/>
          <a:ext cx="8567640" cy="5616720"/>
        </p:xfrm>
        <a:graphic>
          <a:graphicData uri="http://schemas.openxmlformats.org/drawingml/2006/table">
            <a:tbl>
              <a:tblPr/>
              <a:tblGrid>
                <a:gridCol w="4608360"/>
                <a:gridCol w="2160720"/>
                <a:gridCol w="179856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Журнал «Новости Госстандарт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обрать материал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зять электронную версию материала из бумажных вариантов. Работа в программе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Read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Проверить предоставленные материалы в текстовой программе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d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грамматические ошибки, дополнительные параметры: шрифты, размер шрифтов, абзацы, пробелы и т.д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Провести беседу с авторами статей, добавить упущенные информации (правильное название организации, цифры, полное название сокращенных слов и т.д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еренос проверенных материалов в текстовую программу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Maker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Работа с фотоматериалами в программе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otoshop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фотографировать нужные объекты для журнала (фото на семинарах, отделы института, вид стандартов и т.д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Работа с названиями статей и рисунками в программе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elDra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Компоновка и верстка всего журнала (вставка рисунков, расположение статей, номера страниц, нарисовать таблицы и т.д.) в программе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e Maker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Распечатка сигнального экземпляра для корректировки и редактирования. Коррекция и редактиров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Переверстать проверенный журнал, переделать содержание и распечатк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Повторная проверка журнал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Внести изменения и утверждение сигнального экземпляра журнала (показать руководителям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После утверждения предоставить журнал в типографию для тиражирова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Тиражирование журнал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После тиражирования распространить журналы по регионам и доставить в Казпочт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екламные букле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ГФ НПА и 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аркетинг (анализ и изучение рынка данного вида услуг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Сбор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Сканирование и обработка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Набор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роверка на соответств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Комплект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Корректиров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Дизайн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одготовка макет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Соглас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Передача макета в типографию на тиражир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Отправление Актом приема-передачи в ЮФ РГП «КазИнСт» согласно Плану изда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Публикация на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b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сайте Институт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Мероприятия по улучшению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аталог  ЛТ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аркетинг (анализ и изучение рынка данного вида услуг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Сбор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Актуализация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Работа с архивными данным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Обработка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Набор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Комплект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Корректиров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Дизайн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Подготовка макет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Соглас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Передача оригинал-макета в типографию на тиражиров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0:11:25Z</dcterms:created>
  <dc:creator>Aset</dc:creator>
  <dc:description/>
  <dc:language>en-US</dc:language>
  <cp:lastModifiedBy>Лидия Кубысовна</cp:lastModifiedBy>
  <dcterms:modified xsi:type="dcterms:W3CDTF">2010-02-12T12:16:40Z</dcterms:modified>
  <cp:revision>6</cp:revision>
  <dc:subject/>
  <dc:title>ГОСУДАРСТВЕННЫЙ ФОНД НПА В ОБЛАСТИ ТЕХНИЧЕСКОГО РЕГУЛИРОВАНИЯ И СТАНДАРТОВ</dc:title>
</cp:coreProperties>
</file>